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47C-1681-44F1-B35E-C1A12A5A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57D-2D2F-48E7-AD2D-4B4EDFE6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FAE-6C0A-4594-9E64-28B9F1FA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D51-5BC0-48D0-8033-C33640F3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59E9-8B43-4F5F-A8A4-DC7FDC31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3BCE-9448-4917-B1EC-FB1149BF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3F19-9953-4492-A9DC-EF1CBAE7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073A-E7A2-452C-BAA5-F5E392CC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235E-C20C-4664-B909-CF81908E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C5E3-B9D0-48E9-A39C-C855E382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532C-DE00-42BD-8348-4FC50C8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5A0-D4BE-4A32-849B-DDEB8A1B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8675-4476-4DC5-B2F6-C78C53A1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8EB9-ABFF-490C-8F46-47CA41C2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F19B-D3B7-4F95-8D82-7729F6CC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14AE-E3E6-42AB-84EE-2E39F137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43BD-B30C-44F8-8D6B-FE7FFAB5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9060-0CB6-4D81-BC76-BF3CE515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44BA-F57C-4197-8EFB-BDF87792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57D3-4E06-4ADC-8AA9-743BE8E2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EE67-5AFE-4489-8A62-44EA1A6A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107E-FE17-4898-A6F6-A9363748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983-A699-4D95-A72C-471CA743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B0E8-DF48-40EC-9D05-8D024F00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1381D-5296-4EE9-9A49-26BC9663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B16A-5A96-49CA-9CCD-B7822A3E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C25D-852B-49A5-901B-BF0F77FA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583E-CB87-4D31-A511-CE938526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96EC-ADE1-4125-9FA7-035342A2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42161-D881-4567-8192-640F42FF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EF4B-0BFD-4876-85E3-C96B8755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130E-BD3A-4441-9B58-B79C3277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52F6-5246-4DA9-A99E-F9390B8C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FC6-1792-45CA-A2DF-5E3D4A92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8BDC-ACEB-4B7C-B55F-DD4CFEFD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4B2B1-4A82-41D1-BA3B-CB20712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BDDEC-E7E3-4D02-9DB6-3F24F48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B4AF-544E-433A-A860-297F842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9117-36DB-4A2C-B636-477C7A97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478C-2739-4282-A7EF-185941C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AD9D3-7142-4758-B030-49D5B5A0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BB1A7-1B89-456B-8793-E69EDAFE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1B2E-F69C-40FD-8E36-7BD85659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813F-82A1-44E8-A1AD-1A3C4D4E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259-C3CC-4D57-87F4-C9EBFE86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64AF3-69D1-4C32-AE1A-2B4A427C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24896-8440-4B43-A8DE-7C9508B5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03213-2566-417D-B8EA-B27E990D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A5CC-55CE-4AA1-BD25-B038EC40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828E-507C-462D-B9AC-E7FD91AF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6E3E-EB3A-40FB-BA98-B04139B0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042D-65EA-44A1-AF27-82D16A0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1719B-5AD8-4694-B5A4-2780735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66CE3-1E16-4534-A7F1-6F7A5EC3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89AF1-9EE5-42A8-B111-461B0C88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560-497A-47C2-8F4A-02E532E6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7C053-323B-43A0-837F-FA6F94F0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996-04F1-47D5-AE34-87C91F6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765-ADDF-4635-9A5B-5272214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960-8D71-442F-8877-8940DD6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BA27-C0B0-49C8-AF12-3087F3FE1D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94D-ABF9-43F5-8656-86BD620F74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461C-7EC1-4581-9725-F83AB33CD1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AA7B-7DD4-47A1-9D94-780D57DE40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D35-D82F-4951-88D9-B30B1B3FD7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5" descr="微信图片_20181124201808"/>
          <p:cNvPicPr/>
          <p:nvPr/>
        </p:nvPicPr>
        <p:blipFill>
          <a:blip r:embed="rId1"/>
          <a:stretch/>
        </p:blipFill>
        <p:spPr>
          <a:xfrm>
            <a:off x="241200" y="-41400"/>
            <a:ext cx="4307040" cy="6012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63800" y="3450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郑振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4176720" y="23749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66"/>
                </a:solidFill>
                <a:latin typeface="Arial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"/>
          <p:cNvSpPr/>
          <p:nvPr/>
        </p:nvSpPr>
        <p:spPr>
          <a:xfrm>
            <a:off x="3981600" y="4813200"/>
            <a:ext cx="419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藁城区第九中学初中部  龙慧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内容占位符 2"/>
          <p:cNvSpPr/>
          <p:nvPr/>
        </p:nvSpPr>
        <p:spPr>
          <a:xfrm>
            <a:off x="27000" y="2198520"/>
            <a:ext cx="909144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4"/>
          <p:cNvSpPr/>
          <p:nvPr/>
        </p:nvSpPr>
        <p:spPr>
          <a:xfrm>
            <a:off x="3871800" y="2014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拓展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287280" y="28098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如果再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次机会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会如何对待第三只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2" descr="微信图片_20181124201642"/>
          <p:cNvPicPr/>
          <p:nvPr/>
        </p:nvPicPr>
        <p:blipFill>
          <a:blip r:embed="rId1"/>
          <a:stretch/>
        </p:blipFill>
        <p:spPr>
          <a:xfrm>
            <a:off x="5329080" y="2517840"/>
            <a:ext cx="3503880" cy="3511440"/>
          </a:xfrm>
          <a:prstGeom prst="rect">
            <a:avLst/>
          </a:prstGeom>
          <a:ln w="0">
            <a:noFill/>
          </a:ln>
        </p:spPr>
      </p:pic>
      <p:sp>
        <p:nvSpPr>
          <p:cNvPr id="257" name="矩形 5"/>
          <p:cNvSpPr/>
          <p:nvPr/>
        </p:nvSpPr>
        <p:spPr>
          <a:xfrm>
            <a:off x="3873600" y="1600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57200" y="251784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平板上推送的文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内容占位符 2"/>
          <p:cNvSpPr/>
          <p:nvPr/>
        </p:nvSpPr>
        <p:spPr>
          <a:xfrm>
            <a:off x="84240" y="3397320"/>
            <a:ext cx="70149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《小狗包弟》巴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《白鹅》丰子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内容占位符 2"/>
          <p:cNvSpPr/>
          <p:nvPr/>
        </p:nvSpPr>
        <p:spPr>
          <a:xfrm>
            <a:off x="312840" y="2558880"/>
            <a:ext cx="851688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习概括文章主要内容的方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会文章的思想感情及蕴涵的人生哲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理解文章过渡段和尾段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5920" y="1563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默读文章，完成导学案中的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2938680" y="236520"/>
            <a:ext cx="312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学生自学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流程图: 可选过程 1"/>
          <p:cNvSpPr/>
          <p:nvPr/>
        </p:nvSpPr>
        <p:spPr>
          <a:xfrm>
            <a:off x="534960" y="2665440"/>
            <a:ext cx="7931160" cy="342432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学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默读文章，积累生字生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运用圈点勾画法，提取文中有效信息，体会作者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分析文章过渡段和尾段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内容占位符 2"/>
          <p:cNvSpPr/>
          <p:nvPr/>
        </p:nvSpPr>
        <p:spPr>
          <a:xfrm>
            <a:off x="27000" y="1911240"/>
            <a:ext cx="909144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33440" y="2273400"/>
            <a:ext cx="81374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自学情况，对导学案中的内容进行分组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2938680" y="236520"/>
            <a:ext cx="312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生生互学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流程图: 可选过程 1"/>
          <p:cNvSpPr/>
          <p:nvPr/>
        </p:nvSpPr>
        <p:spPr>
          <a:xfrm>
            <a:off x="534960" y="3403440"/>
            <a:ext cx="7931160" cy="140364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互学指导：由组内④③②号同学按顺序发言，组长①号组织发言并总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内容占位符 2"/>
          <p:cNvSpPr/>
          <p:nvPr/>
        </p:nvSpPr>
        <p:spPr>
          <a:xfrm>
            <a:off x="27000" y="1695600"/>
            <a:ext cx="90914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5"/>
          <p:cNvSpPr/>
          <p:nvPr/>
        </p:nvSpPr>
        <p:spPr>
          <a:xfrm>
            <a:off x="3497400" y="2365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自学检测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内容占位符 2"/>
          <p:cNvSpPr/>
          <p:nvPr/>
        </p:nvSpPr>
        <p:spPr>
          <a:xfrm>
            <a:off x="27000" y="1911240"/>
            <a:ext cx="90914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5920" y="1706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成平板上的题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-42840" y="3078000"/>
            <a:ext cx="9090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《</a:t>
            </a:r>
            <a:r>
              <a:rPr b="0" lang="en-US" sz="4000" spc="-1" strike="noStrike">
                <a:solidFill>
                  <a:srgbClr val="222267"/>
                </a:solidFill>
                <a:latin typeface="黑体"/>
                <a:ea typeface="黑体"/>
              </a:rPr>
              <a:t>&lt;</a:t>
            </a: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猫</a:t>
            </a:r>
            <a:r>
              <a:rPr b="0" lang="en-US" sz="4000" spc="-1" strike="noStrike">
                <a:solidFill>
                  <a:srgbClr val="222267"/>
                </a:solidFill>
                <a:latin typeface="黑体"/>
                <a:ea typeface="黑体"/>
              </a:rPr>
              <a:t>&gt;</a:t>
            </a:r>
            <a:r>
              <a:rPr b="0" lang="zh-CN" sz="4000" spc="-1" strike="noStrike">
                <a:solidFill>
                  <a:srgbClr val="222267"/>
                </a:solidFill>
                <a:latin typeface="黑体"/>
                <a:ea typeface="黑体"/>
              </a:rPr>
              <a:t>课前检测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流程图: 可选过程 8"/>
          <p:cNvSpPr/>
          <p:nvPr/>
        </p:nvSpPr>
        <p:spPr>
          <a:xfrm>
            <a:off x="6200640" y="928800"/>
            <a:ext cx="2562480" cy="63504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: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592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深读文章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>
            <a:off x="3801960" y="236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师生展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27000" y="1911240"/>
            <a:ext cx="90914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内容占位符 2"/>
          <p:cNvSpPr/>
          <p:nvPr/>
        </p:nvSpPr>
        <p:spPr>
          <a:xfrm>
            <a:off x="109440" y="1996920"/>
            <a:ext cx="90900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请用一句话概括文章主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流程图: 可选过程 1"/>
          <p:cNvSpPr/>
          <p:nvPr/>
        </p:nvSpPr>
        <p:spPr>
          <a:xfrm>
            <a:off x="792000" y="2919240"/>
            <a:ext cx="7419960" cy="186876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楷体"/>
                <a:ea typeface="楷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法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主语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谓语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宾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主要人物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事件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5"/>
          <p:cNvSpPr/>
          <p:nvPr/>
        </p:nvSpPr>
        <p:spPr>
          <a:xfrm>
            <a:off x="1035000" y="5221440"/>
            <a:ext cx="72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我家养了三只猫，它们或死或丢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对象 7" descr=""/>
          <p:cNvPicPr/>
          <p:nvPr/>
        </p:nvPicPr>
        <p:blipFill>
          <a:blip r:embed="rId1"/>
          <a:stretch/>
        </p:blipFill>
        <p:spPr>
          <a:xfrm>
            <a:off x="363204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234" name="燕尾形箭头 11"/>
          <p:cNvSpPr/>
          <p:nvPr/>
        </p:nvSpPr>
        <p:spPr>
          <a:xfrm rot="20520000">
            <a:off x="1518840" y="4682880"/>
            <a:ext cx="1684440" cy="490320"/>
          </a:xfrm>
          <a:custGeom>
            <a:avLst/>
            <a:gdLst>
              <a:gd name="textAreaLeft" fmla="*/ 122400 w 1684440"/>
              <a:gd name="textAreaRight" fmla="*/ 1562040 w 1684440"/>
              <a:gd name="textAreaTop" fmla="*/ 122400 h 490320"/>
              <a:gd name="textAreaBottom" fmla="*/ 367920 h 490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455" y="5400"/>
                </a:lnTo>
                <a:lnTo>
                  <a:pt x="18455" y="0"/>
                </a:lnTo>
                <a:lnTo>
                  <a:pt x="21600" y="10800"/>
                </a:lnTo>
                <a:lnTo>
                  <a:pt x="18455" y="21600"/>
                </a:lnTo>
                <a:lnTo>
                  <a:pt x="18455" y="16200"/>
                </a:lnTo>
                <a:lnTo>
                  <a:pt x="0" y="16200"/>
                </a:lnTo>
                <a:lnTo>
                  <a:pt x="15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592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深读文章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内容占位符 2"/>
          <p:cNvSpPr/>
          <p:nvPr/>
        </p:nvSpPr>
        <p:spPr>
          <a:xfrm>
            <a:off x="25560" y="1900080"/>
            <a:ext cx="909144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内容占位符 2"/>
          <p:cNvSpPr/>
          <p:nvPr/>
        </p:nvSpPr>
        <p:spPr>
          <a:xfrm>
            <a:off x="217440" y="3784680"/>
            <a:ext cx="90900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67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222267"/>
                </a:solidFill>
                <a:latin typeface="黑体"/>
                <a:ea typeface="黑体"/>
              </a:rPr>
              <a:t>从作者和三只猫的故事中，你得到了怎样的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"/>
          <p:cNvSpPr/>
          <p:nvPr/>
        </p:nvSpPr>
        <p:spPr>
          <a:xfrm>
            <a:off x="3801960" y="236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师生展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217440" y="1800360"/>
            <a:ext cx="88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67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222267"/>
                </a:solidFill>
                <a:latin typeface="黑体"/>
                <a:ea typeface="黑体"/>
              </a:rPr>
              <a:t>三只猫或丢或死，我最难过的是哪一次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"/>
          <p:cNvSpPr/>
          <p:nvPr/>
        </p:nvSpPr>
        <p:spPr>
          <a:xfrm>
            <a:off x="385920" y="2859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第三次。因为我冤苦了这只不能辩诉的动物，内心充满了内疚和自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流程图: 可选过程 9"/>
          <p:cNvSpPr/>
          <p:nvPr/>
        </p:nvSpPr>
        <p:spPr>
          <a:xfrm>
            <a:off x="320760" y="4975200"/>
            <a:ext cx="8502480" cy="156528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为什么认定第三只猫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凶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偷吃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贼是第一只猫，他们会怎样为它开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195560" y="3495600"/>
            <a:ext cx="73771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要主观臆断，妄下断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应该平等的对待每一个生命，关爱弱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"/>
          <p:cNvSpPr/>
          <p:nvPr/>
        </p:nvSpPr>
        <p:spPr>
          <a:xfrm>
            <a:off x="3699000" y="723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感悟主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内容占位符 2"/>
          <p:cNvSpPr/>
          <p:nvPr/>
        </p:nvSpPr>
        <p:spPr>
          <a:xfrm>
            <a:off x="1195560" y="2054160"/>
            <a:ext cx="6406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从猫的故事中感悟到了人生的道理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5920" y="1492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细读文章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内容占位符 2"/>
          <p:cNvSpPr/>
          <p:nvPr/>
        </p:nvSpPr>
        <p:spPr>
          <a:xfrm>
            <a:off x="50760" y="4727520"/>
            <a:ext cx="8899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内容占位符 2"/>
          <p:cNvSpPr/>
          <p:nvPr/>
        </p:nvSpPr>
        <p:spPr>
          <a:xfrm>
            <a:off x="27000" y="1911240"/>
            <a:ext cx="90914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内容占位符 2"/>
          <p:cNvSpPr/>
          <p:nvPr/>
        </p:nvSpPr>
        <p:spPr>
          <a:xfrm>
            <a:off x="50760" y="2079720"/>
            <a:ext cx="90900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67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222267"/>
                </a:solidFill>
                <a:latin typeface="Arial"/>
                <a:ea typeface="宋体"/>
              </a:rPr>
              <a:t>自此，我家永不养猫。”是文章的结尾段，是否可以删去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3801960" y="379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师生展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"/>
          <p:cNvSpPr/>
          <p:nvPr/>
        </p:nvSpPr>
        <p:spPr>
          <a:xfrm>
            <a:off x="385920" y="4343400"/>
            <a:ext cx="81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结构：总结全文，与开头相呼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内容：它表达了极其深刻的情感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永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显示了作者态度的决绝。我的良心受到谴责，追悔莫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流程图: 可选过程 3"/>
          <p:cNvSpPr/>
          <p:nvPr/>
        </p:nvSpPr>
        <p:spPr>
          <a:xfrm>
            <a:off x="885960" y="3586320"/>
            <a:ext cx="7419960" cy="657000"/>
          </a:xfrm>
          <a:prstGeom prst="flowChartAlternateProcess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67"/>
                </a:solidFill>
                <a:latin typeface="Arial"/>
              </a:rPr>
              <a:t>学习指导：从结构、内容两方面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3T13:30:20Z</dcterms:created>
  <dc:creator>jiuzhong</dc:creator>
  <dc:description/>
  <dc:language>en-US</dc:language>
  <cp:lastModifiedBy>jiuzhong</cp:lastModifiedBy>
  <dcterms:modified xsi:type="dcterms:W3CDTF">2018-11-25T13:09:36Z</dcterms:modified>
  <cp:revision>54</cp:revision>
  <dc:subject/>
  <dc:title>——郑振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7932</vt:lpwstr>
  </property>
</Properties>
</file>